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E3D-7526-4DCB-9811-967BB198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881-BE74-4A25-A6B1-9B94C582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F01-B3F3-46DA-8A73-D4AE8032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DFA-1D2C-4C14-AF1E-FA05786E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D4E-7403-4E15-8819-19458F5B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901-F169-412C-8720-BC23010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12D-FD59-4B84-B01A-CE2D8DA9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11C-4E10-41FB-AA78-8A12EEF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F32-3684-4D13-B2B4-ED9A7421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603-5195-4E72-B5E0-8B1FF9F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102-984E-46C8-8198-0A1BDE7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4B7-BAAF-4D2F-8EFA-EEB732C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7DDA-6644-4ADF-B84B-2F9AF661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7467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additional changes made at E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853452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ta_ct parameter 1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wind speed reg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: about 0.2 for storms initial intensity under 65k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for storms initial intensity over 65k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- This causes the problem of spin-up for a weak storm while spin-down problem for a strong 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Matching the 10m wind speed to the observational values but not the central pressu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- This makes the initial vortex more mass-wind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696080" cy="70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4800600" y="18288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2286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w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523880"/>
            <a:ext cx="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114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251460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w initialization improves the intensity skill over 20% at the early time (0-48h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080"/>
            <a:ext cx="792468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7162920" y="16002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295280"/>
            <a:ext cx="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w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91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19320"/>
            <a:ext cx="25146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w initialization improves the track forecast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934400" cy="6134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3048120"/>
            <a:ext cx="2286000" cy="1523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495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spin-up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52280"/>
            <a:ext cx="4495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RFV3.2 baseline (hurricane Ea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1752480"/>
            <a:ext cx="546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wind speed (k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934400" cy="613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43000" y="289548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l spin-ups are mostly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429000"/>
            <a:ext cx="2361960" cy="1447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791320"/>
            <a:ext cx="8153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urricane Igor results show the significant reduce of spin-down for the initially strong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28600"/>
            <a:ext cx="4114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RFV3.2 baseline with new init (Ea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" y="1981080"/>
            <a:ext cx="546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wind speed (k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2:00:29Z</dcterms:created>
  <dc:creator>ykwon</dc:creator>
  <dc:description/>
  <dc:language>en-US</dc:language>
  <cp:lastModifiedBy>ykwon</cp:lastModifiedBy>
  <dcterms:modified xsi:type="dcterms:W3CDTF">2011-01-20T14:44:36Z</dcterms:modified>
  <cp:revision>16</cp:revision>
  <dc:subject/>
  <dc:title>Slide 1</dc:title>
</cp:coreProperties>
</file>